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A9A-B857-4701-8997-5ACAA06B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A94-54A8-4BFE-B06B-18B4AD1C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27C2-A149-4A3C-850D-46FCBAF4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BDAB-97C2-4ED7-A2EE-6D5F6AC5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2BE7-2E90-47B3-9D5B-B840997F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974C-5BFF-4E31-882C-4BEA9BC8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EE26-8AC1-4FDB-9316-D74BF9AD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71F0-C2DA-490D-8DFF-364A9BB1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725B-30AF-4EC0-95CB-150A0253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01F5-5C0B-4797-816A-D728DCE4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B347-E7EE-43F1-A1B1-DBF1C7D9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1803-E089-4480-92B6-884D3A3C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5C5C-1946-4F25-BCD1-61016AE2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B880-4256-46C9-BE50-F1EF9F8F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D316-C113-45C3-B1F6-03FE876D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6CB2-0450-45C8-80A4-7B487422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A430-EC5D-4DF3-BEA9-CB47C7E5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FEE-E2AD-4E15-A74D-A2FDF44A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331B-95F8-42D3-A896-64BEF8C0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4CA-3A48-453F-AD65-11673FB1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D23-5B70-4461-9460-3C7EA571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F8E3-AE41-4D50-97AB-36B766EA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67D-17E7-4D5F-8233-7F9F7551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078-6095-4E62-9903-E3686423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390B-B72E-4CD4-88CF-F9B15122003D}" type="slidenum">
              <a:rPr b="0" lang="en-US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C323-1F63-4932-BB0D-ADCB024FD9DF}" type="slidenum">
              <a:rPr b="0" lang="en-US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67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hreya Rawa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mail: srawal@ucalgary.c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rcRect l="0" t="-57" r="0" b="-57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3"/>
          <a:srcRect l="0" t="-57" r="0" b="-57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rcRect l="0" t="-57" r="0" b="-57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rcRect l="0" t="-57" r="0" b="-57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rcRect l="0" t="-57" r="0" b="-57"/>
          <a:stretch/>
        </p:blipFill>
        <p:spPr>
          <a:xfrm>
            <a:off x="38088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rcRect l="0" t="-57" r="0" b="-57"/>
          <a:stretch/>
        </p:blipFill>
        <p:spPr>
          <a:xfrm>
            <a:off x="304920" y="160020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me basic rules about desig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rts of a well designed spreadshee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sign the spreadsheet on paper first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st and edit your calculation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eep the components of a calculation visibl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 aware of the "space" or "geography" of the spreadsheet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1) Introduction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this spreadsheet or workbook about. Note the title, purpose, author, creation and revision dates etc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Model and Assumption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stify any models, summary statistics, or calculated variables you are using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3)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Data Dictionar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 every variable in the spreadsheet note i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Locatio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(cell rang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Nam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ata Clas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it is (Raw Data, Statistical Summary, Calculated Variable, Score etc.)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ata Typ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(e.g. Integer, Text, Currency, Date, etc.)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escriptio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(a description of the data or what it's '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purpos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' is)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4) Raw Dat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sent your raw data in tabular form, with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olumns representing variabl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rows representing cas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5) Calculated Data: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mmary Statistics: Usually Summary statistics result from calculations across rows for a single colum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rived variables are often based on calculations across columns for a row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6) Presentat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Reporting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phasize the final information you wish to show without excessive background detail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charts wherever appropriate to summarize large volumes of data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reya Rawal</cp:lastModifiedBy>
  <dcterms:modified xsi:type="dcterms:W3CDTF">2009-01-28T17:23:5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